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929-3892-4A1C-9ADA-0A106623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AF2-8998-452B-9DCC-99CD0356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762-7F9D-45A4-A4C2-F38C4BBD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4DC-E381-40E6-9CC2-7706BAB7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ACD-5639-4210-83D5-B51361D1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941-A995-4B88-B3CB-0CC8D4ED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0ADF-589E-44CF-BC9C-3378A597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859B-7CEF-4770-8C71-3CFCE2D6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C45-5090-4C3F-8F2E-E1FBC982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A2A-E558-429B-96C3-D49472C4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B29-2F95-42F6-A84C-BF14938B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D8F-01DB-4E1B-B02C-817C208B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96E7-6EA0-44F0-9B7A-A0B34C5D3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699000" cy="1106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4238640" cy="59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2514600"/>
            <a:ext cx="79246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012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7536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562640" cy="612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685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6197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4:10:10Z</dcterms:created>
  <dc:creator>grahams</dc:creator>
  <dc:description/>
  <dc:language>en-US</dc:language>
  <cp:lastModifiedBy>grahams</cp:lastModifiedBy>
  <dcterms:modified xsi:type="dcterms:W3CDTF">2012-04-26T14:10:15Z</dcterms:modified>
  <cp:revision>1</cp:revision>
  <dc:subject/>
  <dc:title>Slide 1</dc:title>
</cp:coreProperties>
</file>